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media/image5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C13925-42E3-413A-8DBD-1FD887DE49C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11775E-5EB6-4CEB-AAEA-009F71B485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04BBE8-A2A3-46F8-9A86-12A30EB6B8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8C1E-5172-4FE4-AB43-EF20C305D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EE77-E99C-4174-A7D0-5D966980F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F057-43A8-4B6B-9E3E-F8F20A3AD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08D3-6412-4395-A8AC-0585D6540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DFC54-2ADF-49F5-B851-C2A8DC39F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CAF68-08E5-4D54-8FC0-E70D0126B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94837-BC49-4819-8A68-9E7F36438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C9740-C059-493C-B402-DD3CF36DB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3A7F7-7DB9-48F9-ABA8-A7FF82A06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71FF9-F124-46C7-8537-497BCED1D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31ABE-E3A5-4FD0-8AD5-64119FF5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40CA-30E1-41A8-914E-8B94E2316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25BDE-1702-44FE-8FF7-AA95BA94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14BA9-A9E7-4F72-A178-272E18CF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26C65-C09B-4246-AE69-63727C8A9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A0EB0-7079-4361-BCB3-1CF2C9E4B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8158A-C91D-41A2-AFBC-253860BDA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9F153-3FFA-4AA6-83C9-72B299A3C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0DDFD-3071-4DDC-ADC9-F735D8926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42104-CC42-41BC-BAB9-625095781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E6889-86EB-4F5C-8796-5339A1A96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6CA53-6317-429C-BE3B-2E041B26C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9331-1088-4001-9AA7-85272F967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A6BB4-9BBD-4520-BBCC-3BF7007DF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BD8E6-182C-4A4D-892A-B1A42F42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2C5F5-4BE1-4B9E-8EAD-8BB1876D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D3CDB-BBD0-4B66-910F-BFC2A7C8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FD7DE-4065-4DCA-9AC6-E60A644B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1C0A9-2DE0-473D-A896-86B6A3AFE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28BB0-7056-430D-8168-AC3697817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9AFCC-EE52-48C9-AD5B-C5860B162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893D7-32EC-4936-8566-9EA5DF9E2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3E3F5-90EA-423F-9B8C-30EB6EA6D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80BC-5278-4654-97F0-0FFB25EE1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67ABA-148A-4A55-A0CB-C979BC08F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841EE-2DB9-4A26-8523-E9E50EE0B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1393E-5B68-424B-BD48-C9726518F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51A9C-5A7D-4A24-88F6-74EA3DD4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2976C-F974-4DD1-B0BC-190EE826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82EE9-1D02-45D3-951C-B47FD515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87976-8F80-4F7D-9332-550CD0021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C5458-2745-46BE-987E-0F82DD2A0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88CF2-BF7A-47D6-A60A-798099E82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E13A-8F16-4AE3-A039-7EC9B0B5A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0D64-5F35-4C55-BF9B-8EC5F43BB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2E6C-8E56-4C6A-AE4B-7623BC48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27D1-06C7-446B-AA0D-C108A8F5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60FC-224D-4A65-892C-3F2825A7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FBC1B3-DC8B-4079-BA8C-79002E45BA3D}" type="datetime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1E0089-6F2F-4075-8F83-83EDBE9C421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C3CD66-95C4-4524-9783-6004A0A3E9F9}" type="datetime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B86D2C-5DE4-4F02-8A84-73C10AB79A16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D82B4B-FC60-482D-AC33-C2494A2B7C1A}" type="datetime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4E10B0-4499-4B25-8121-A591C4890C5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7C3D7E-AC2B-4698-B16E-8DE557F880A9}" type="datetime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704DCD-EEF3-428F-BAFD-CCC4C715C05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5" descr="himachal-pardesh-india-4.jpg"/>
          <p:cNvPicPr/>
          <p:nvPr/>
        </p:nvPicPr>
        <p:blipFill>
          <a:blip r:embed="rId2"/>
          <a:stretch/>
        </p:blipFill>
        <p:spPr>
          <a:xfrm>
            <a:off x="1066680" y="736560"/>
            <a:ext cx="5837400" cy="54100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Kavita sadwa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t 7240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Title 3" descr=""/>
          <p:cNvPicPr/>
          <p:nvPr/>
        </p:nvPicPr>
        <p:blipFill>
          <a:blip r:embed="rId3"/>
          <a:stretch/>
        </p:blipFill>
        <p:spPr>
          <a:xfrm>
            <a:off x="530280" y="1365120"/>
            <a:ext cx="7888320" cy="19576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geograph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6" name="Content Placeholder 3" descr="map.jpg"/>
          <p:cNvPicPr/>
          <p:nvPr/>
        </p:nvPicPr>
        <p:blipFill>
          <a:blip r:embed="rId2"/>
          <a:srcRect l="-42367" t="0" r="-42367" b="0"/>
          <a:stretch/>
        </p:blipFill>
        <p:spPr>
          <a:xfrm>
            <a:off x="-1752480" y="1847880"/>
            <a:ext cx="8229600" cy="4387680"/>
          </a:xfrm>
          <a:prstGeom prst="rect">
            <a:avLst/>
          </a:prstGeom>
          <a:ln w="0">
            <a:noFill/>
          </a:ln>
        </p:spPr>
      </p:pic>
      <p:sp>
        <p:nvSpPr>
          <p:cNvPr id="207" name="TextBox 5"/>
          <p:cNvSpPr/>
          <p:nvPr/>
        </p:nvSpPr>
        <p:spPr>
          <a:xfrm>
            <a:off x="5105520" y="2400480"/>
            <a:ext cx="3809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ituated in the heart of western Himalaya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ocation :  between 30”22’’&amp;30”12” North latitude and between 75”47” &amp;79’4” east longitud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Mountaineous state with altitude between 350-7000 meter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6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ctiviti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_x0016_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3" descr="image.jpg"/>
          <p:cNvPicPr/>
          <p:nvPr/>
        </p:nvPicPr>
        <p:blipFill>
          <a:blip r:embed="rId2"/>
          <a:stretch/>
        </p:blipFill>
        <p:spPr>
          <a:xfrm>
            <a:off x="457200" y="2581200"/>
            <a:ext cx="7986600" cy="4276800"/>
          </a:xfrm>
          <a:prstGeom prst="rect">
            <a:avLst/>
          </a:prstGeom>
          <a:ln w="0">
            <a:noFill/>
          </a:ln>
        </p:spPr>
      </p:pic>
      <p:sp>
        <p:nvSpPr>
          <p:cNvPr id="211" name="TextBox 4"/>
          <p:cNvSpPr/>
          <p:nvPr/>
        </p:nvSpPr>
        <p:spPr>
          <a:xfrm>
            <a:off x="7543800" y="19350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Mountain hiking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6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Kayaking   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3" name="Content Placeholder 3" descr="image_003.jpg"/>
          <p:cNvPicPr/>
          <p:nvPr/>
        </p:nvPicPr>
        <p:blipFill>
          <a:blip r:embed="rId2"/>
          <a:srcRect l="-6719" t="0" r="-6719" b="0"/>
          <a:stretch/>
        </p:blipFill>
        <p:spPr>
          <a:xfrm>
            <a:off x="457200" y="193500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Having a bird’s eye view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5" name="Content Placeholder 3" descr="image_004.jpg"/>
          <p:cNvPicPr/>
          <p:nvPr/>
        </p:nvPicPr>
        <p:blipFill>
          <a:blip r:embed="rId2"/>
          <a:srcRect l="-19590" t="0" r="-19590" b="0"/>
          <a:stretch/>
        </p:blipFill>
        <p:spPr>
          <a:xfrm>
            <a:off x="457200" y="193500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amp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7" name="Content Placeholder 3" descr="image.jpg"/>
          <p:cNvPicPr/>
          <p:nvPr/>
        </p:nvPicPr>
        <p:blipFill>
          <a:blip r:embed="rId2"/>
          <a:srcRect l="0" t="-3327" r="0" b="-3327"/>
          <a:stretch/>
        </p:blipFill>
        <p:spPr>
          <a:xfrm>
            <a:off x="457200" y="193500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18" name="Macintosh HD:Users:student:Music:iTunes:iTunes Music:Barry Starlin Britt:Soundzabound Volume 1 (Disc 1):13 Tender Moment.m4a" descr=""/>
          <p:cNvPicPr/>
          <p:nvPr/>
        </p:nvPicPr>
        <p:blipFill>
          <a:blip r:embed="rId3"/>
          <a:stretch/>
        </p:blipFill>
        <p:spPr>
          <a:xfrm>
            <a:off x="3809880" y="3079800"/>
            <a:ext cx="1524240" cy="6984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omen picking tea-leav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0" name="Content Placeholder 3" descr="3542567438_5179dd006d.jpg"/>
          <p:cNvPicPr/>
          <p:nvPr/>
        </p:nvPicPr>
        <p:blipFill>
          <a:blip r:embed="rId2"/>
          <a:srcRect l="-4552" t="0" r="-4552" b="0"/>
          <a:stretch/>
        </p:blipFill>
        <p:spPr>
          <a:xfrm>
            <a:off x="457200" y="193500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erenit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2" name="Content Placeholder 4" descr="200907-getaways-glacier-ss.jpg"/>
          <p:cNvPicPr/>
          <p:nvPr/>
        </p:nvPicPr>
        <p:blipFill>
          <a:blip r:embed="rId2"/>
          <a:srcRect l="-28934" t="0" r="-28934" b="0"/>
          <a:stretch/>
        </p:blipFill>
        <p:spPr>
          <a:xfrm>
            <a:off x="-762120" y="2133720"/>
            <a:ext cx="8229600" cy="4389480"/>
          </a:xfrm>
          <a:prstGeom prst="rect">
            <a:avLst/>
          </a:prstGeom>
          <a:ln w="0">
            <a:noFill/>
          </a:ln>
        </p:spPr>
      </p:pic>
      <p:sp>
        <p:nvSpPr>
          <p:cNvPr id="223" name="TextBox 5"/>
          <p:cNvSpPr/>
          <p:nvPr/>
        </p:nvSpPr>
        <p:spPr>
          <a:xfrm flipV="1" rot="10800000">
            <a:off x="6400800" y="250308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o when do you plan to visit this beautiful place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6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5T16:00:32Z</dcterms:created>
  <dc:creator>College of Education</dc:creator>
  <dc:description/>
  <dc:language>en-US</dc:language>
  <cp:lastModifiedBy>College of Education</cp:lastModifiedBy>
  <dcterms:modified xsi:type="dcterms:W3CDTF">2009-07-25T18:48:50Z</dcterms:modified>
  <cp:revision>2</cp:revision>
  <dc:subject/>
  <dc:title>A visit  to Himachal Pradesh-  India</dc:title>
</cp:coreProperties>
</file>